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3A2D-772B-4721-BA9F-9FA88BF080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7EB8-A7D2-419F-AE3B-BB12C0CDB709}" type="slidenum">
              <a:rPr b="0" lang="en-GB" sz="1200" spc="-1" strike="noStrike">
                <a:solidFill>
                  <a:srgbClr val="eaeaea"/>
                </a:solidFill>
                <a:latin typeface="Times New Roman"/>
              </a:rPr>
              <a:t>&lt;number&gt;</a:t>
            </a:fld>
            <a:endParaRPr b="0" lang="en-US" sz="1200" spc="-1" strike="noStrike">
              <a:solidFill>
                <a:srgbClr val="eaeaea"/>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AA350-5C2B-47B5-9497-ECFE5C249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91A75-05D5-4D4E-BC99-6D8CA5559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CC4F5-2D1D-43A7-8FAD-9F7857D09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65C68-520E-4014-BCE9-590DB882D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83872-1110-4B73-8C19-FD69BBFF9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8409C-DDDB-41D0-BB66-5B6D90767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E008B-7486-4FB6-916F-17FB26B87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F52F8-6852-4B2A-AA3D-3FC5AFB5E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8DAC4-DBD8-4C17-8740-4E171E1CC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7B386-56CB-44AE-9521-F14C74BE5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8138D-BF28-4A8E-978F-ED348B9B6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71F48-EA7E-4403-8A1A-2B042A07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C8A09-6A0E-494E-9179-64796D18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A2E6A-E4B6-46FF-B765-4ABCF415F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5725A-8F69-4880-AEA0-797C85FCD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0D395-280F-47F0-9F73-277659D12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45316-4B33-4D48-B007-871F56032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38329-77CB-4733-B445-38895FC3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6678E-C255-4C60-B7AC-D45C0E324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60799-C035-4874-952E-9374A8507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B4AF2-98A9-4C52-AF31-A6AB1D44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737C-CC29-4ED6-B403-28048576B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F949-2D5F-4FE6-95B1-C6BD72CA7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A5FA-2733-4563-A21B-3F76B1E54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2F42-6F67-4057-B273-673BBA039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F5E3-CD48-46C3-B5C7-E07F673E6D2C}"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2"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700" spc="-1" strike="noStrike">
                <a:solidFill>
                  <a:srgbClr val="ffffcc"/>
                </a:solidFill>
                <a:latin typeface="Arial"/>
              </a:rPr>
              <a:t>Physical Distribution and Logistics</a:t>
            </a:r>
            <a:endParaRPr b="0" lang="en-US" sz="57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Chapter 16</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MR2100</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Physical Distribution focuses on the distribution of products from the manufacturer to the custom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Logistics has a broader focus.  Logistics encompasses the flow of raw material to the manufacturer as well as the physical distribution of the finished product to the consumer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9" name="Line 4"/>
          <p:cNvSpPr/>
          <p:nvPr/>
        </p:nvSpPr>
        <p:spPr>
          <a:xfrm>
            <a:off x="1447920" y="3733920"/>
            <a:ext cx="62481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30" name="Rectangle 5"/>
          <p:cNvSpPr/>
          <p:nvPr/>
        </p:nvSpPr>
        <p:spPr>
          <a:xfrm>
            <a:off x="3505320" y="3124080"/>
            <a:ext cx="2209680" cy="10670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nufacturer</a:t>
            </a:r>
            <a:endParaRPr b="0" lang="en-US" sz="2400" spc="-1" strike="noStrike">
              <a:solidFill>
                <a:srgbClr val="eaeaea"/>
              </a:solidFill>
              <a:latin typeface="Verdana"/>
            </a:endParaRPr>
          </a:p>
        </p:txBody>
      </p:sp>
      <p:sp>
        <p:nvSpPr>
          <p:cNvPr id="131" name="Oval 8"/>
          <p:cNvSpPr/>
          <p:nvPr/>
        </p:nvSpPr>
        <p:spPr>
          <a:xfrm>
            <a:off x="45720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2" name="Oval 9"/>
          <p:cNvSpPr/>
          <p:nvPr/>
        </p:nvSpPr>
        <p:spPr>
          <a:xfrm>
            <a:off x="693432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3"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aw Material</a:t>
            </a:r>
            <a:endParaRPr b="0" lang="en-US" sz="2400" spc="-1" strike="noStrike">
              <a:solidFill>
                <a:srgbClr val="eaeaea"/>
              </a:solidFill>
              <a:latin typeface="Verdana"/>
            </a:endParaRPr>
          </a:p>
        </p:txBody>
      </p:sp>
      <p:sp>
        <p:nvSpPr>
          <p:cNvPr id="134"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nsumer</a:t>
            </a:r>
            <a:endParaRPr b="0" lang="en-US" sz="2400" spc="-1" strike="noStrike">
              <a:solidFill>
                <a:srgbClr val="eaeaea"/>
              </a:solidFill>
              <a:latin typeface="Verdana"/>
            </a:endParaRPr>
          </a:p>
        </p:txBody>
      </p:sp>
      <p:sp>
        <p:nvSpPr>
          <p:cNvPr id="135"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6" name=""/>
          <p:cNvSpPr txBox="1"/>
          <p:nvPr/>
        </p:nvSpPr>
        <p:spPr>
          <a:xfrm rot="16223400">
            <a:off x="4637880" y="2297160"/>
            <a:ext cx="238320" cy="5823000"/>
          </a:xfrm>
          <a:prstGeom prst="rect">
            <a:avLst/>
          </a:prstGeom>
          <a:noFill/>
          <a:ln w="9360">
            <a:solidFill>
              <a:srgbClr val="eaeaea"/>
            </a:solidFill>
            <a:round/>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istribution</a:t>
            </a:r>
            <a:endParaRPr b="0" lang="en-US" sz="2400" spc="-1" strike="noStrike">
              <a:solidFill>
                <a:srgbClr val="eaeaea"/>
              </a:solidFill>
              <a:latin typeface="Verdana"/>
            </a:endParaRPr>
          </a:p>
        </p:txBody>
      </p:sp>
      <p:sp>
        <p:nvSpPr>
          <p:cNvPr id="138"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gistic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Importance of Logistics Depends on..</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 number, weight, volume, and perish ability of the product. (Product Fact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terial supply sourc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nufacturing poi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consumption poin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Logistics and Marketing Strategy Interact</a:t>
            </a:r>
            <a:endParaRPr b="0" lang="en-US" sz="4400" spc="-1" strike="noStrike">
              <a:solidFill>
                <a:srgbClr val="ffffcc"/>
              </a:solidFill>
              <a:latin typeface="Arial"/>
            </a:endParaRPr>
          </a:p>
        </p:txBody>
      </p:sp>
      <p:sp>
        <p:nvSpPr>
          <p:cNvPr id="144" name="PlaceHolder 2"/>
          <p:cNvSpPr>
            <a:spLocks noGrp="1"/>
          </p:cNvSpPr>
          <p:nvPr>
            <p:ph/>
          </p:nvPr>
        </p:nvSpPr>
        <p:spPr>
          <a:xfrm>
            <a:off x="456840" y="1828800"/>
            <a:ext cx="8178840" cy="42292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duct Factors - The number, weight, volume, and perish ability of the product.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icing Factors- Costs of shipping and storage &amp; discoun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motional Factors - Ads and promotion must be timed with logistical factors so that the product is availabl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lace Factors - Transportation and storage issu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Objectives of a good Logistical System.</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re has to be a trade off made between minimizing logistical costs of moving and storage and maximizing the service to the customer.</a:t>
            </a:r>
            <a:endParaRPr b="0" lang="en-US" sz="32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otal Logistics Cost Concept</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ies to balance the costs of shipping with the costs of storage to find the optimum minimum cost level.</a:t>
            </a:r>
            <a:endParaRPr b="0" lang="en-US" sz="3200" spc="-1" strike="noStrike">
              <a:solidFill>
                <a:srgbClr val="eaeaea"/>
              </a:solidFill>
              <a:latin typeface="Verdana"/>
            </a:endParaRPr>
          </a:p>
        </p:txBody>
      </p:sp>
      <p:sp>
        <p:nvSpPr>
          <p:cNvPr id="151" name="Rectangle 4"/>
          <p:cNvSpPr/>
          <p:nvPr/>
        </p:nvSpPr>
        <p:spPr>
          <a:xfrm>
            <a:off x="1828800" y="3657600"/>
            <a:ext cx="5562720" cy="2209680"/>
          </a:xfrm>
          <a:prstGeom prst="rect">
            <a:avLst/>
          </a:prstGeom>
          <a:solidFill>
            <a:srgbClr val="5e855b"/>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2" name="Line 5"/>
          <p:cNvSpPr/>
          <p:nvPr/>
        </p:nvSpPr>
        <p:spPr>
          <a:xfrm>
            <a:off x="2362320" y="3809880"/>
            <a:ext cx="4419360" cy="16765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3" name="Line 6"/>
          <p:cNvSpPr/>
          <p:nvPr/>
        </p:nvSpPr>
        <p:spPr>
          <a:xfrm flipV="1">
            <a:off x="2514600" y="3962160"/>
            <a:ext cx="4343400" cy="15238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4"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w                     Storage availability              High </a:t>
            </a:r>
            <a:endParaRPr b="0" lang="en-US" sz="2400" spc="-1" strike="noStrike">
              <a:solidFill>
                <a:srgbClr val="eaeaea"/>
              </a:solidFill>
              <a:latin typeface="Verdana"/>
            </a:endParaRPr>
          </a:p>
        </p:txBody>
      </p:sp>
      <p:sp>
        <p:nvSpPr>
          <p:cNvPr id="155"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sts</a:t>
            </a:r>
            <a:endParaRPr b="0" lang="en-US" sz="2400" spc="-1" strike="noStrike">
              <a:solidFill>
                <a:srgbClr val="eaeaea"/>
              </a:solidFill>
              <a:latin typeface="Verdana"/>
            </a:endParaRPr>
          </a:p>
        </p:txBody>
      </p:sp>
      <p:sp>
        <p:nvSpPr>
          <p:cNvPr id="156"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High</a:t>
            </a:r>
            <a:endParaRPr b="0" lang="en-US" sz="2400" spc="-1" strike="noStrike">
              <a:solidFill>
                <a:srgbClr val="eaeaea"/>
              </a:solidFill>
              <a:latin typeface="Verdana"/>
            </a:endParaRPr>
          </a:p>
        </p:txBody>
      </p:sp>
      <p:sp>
        <p:nvSpPr>
          <p:cNvPr id="157"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eaeaea"/>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8"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Transportation costs</a:t>
            </a:r>
            <a:endParaRPr b="0" lang="en-US" sz="1400" spc="-1" strike="noStrike">
              <a:solidFill>
                <a:srgbClr val="eaeaea"/>
              </a:solidFill>
              <a:latin typeface="Verdana"/>
            </a:endParaRPr>
          </a:p>
        </p:txBody>
      </p:sp>
      <p:sp>
        <p:nvSpPr>
          <p:cNvPr id="159"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Storage Costs</a:t>
            </a:r>
            <a:endParaRPr b="0" lang="en-US" sz="1400" spc="-1" strike="noStrike">
              <a:solidFill>
                <a:srgbClr val="eaeaea"/>
              </a:solidFill>
              <a:latin typeface="Verdana"/>
            </a:endParaRPr>
          </a:p>
        </p:txBody>
      </p:sp>
      <p:sp>
        <p:nvSpPr>
          <p:cNvPr id="160"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Times New Roman"/>
              </a:rPr>
              <a:t>Total Logistics Cost</a:t>
            </a:r>
            <a:endParaRPr b="0" lang="en-US" sz="1600" spc="-1" strike="noStrike">
              <a:solidFill>
                <a:srgbClr val="eaeaea"/>
              </a:solidFill>
              <a:latin typeface="Verdana"/>
            </a:endParaRPr>
          </a:p>
        </p:txBody>
      </p:sp>
      <p:sp>
        <p:nvSpPr>
          <p:cNvPr id="161" name="Line 18"/>
          <p:cNvSpPr/>
          <p:nvPr/>
        </p:nvSpPr>
        <p:spPr>
          <a:xfrm flipV="1">
            <a:off x="1523880" y="4038480"/>
            <a:ext cx="0" cy="1524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62" name="Line 19"/>
          <p:cNvSpPr/>
          <p:nvPr/>
        </p:nvSpPr>
        <p:spPr>
          <a:xfrm>
            <a:off x="3352680" y="6248520"/>
            <a:ext cx="228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ustomer Service Concept</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is Concept simply balances the trade-off of the cost of the Total Logistics Cost Concept (Previous Slide) with the costs of providing key elements of customer service such as Communication, Dependability, Convenience and Tim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e Fig. 16-4</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Two Major Logistics Functions</a:t>
            </a: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ansportation</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Five basic modes of rail, road, air, water and pipelines. (Inter-modal Transportation involves a mixture of methods)</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ach method has distinctive advantages over the othe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hoice depends on the destination and the produc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Weight out the advantages disadvantages and costs of each</a:t>
            </a:r>
            <a:endParaRPr b="0" lang="en-US" sz="20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Warehousing &amp; Materials Handling</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Key Functions include Order Processing and Inventory Managemen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Just-in-time (JIT) inventory is becoming increasingly popular because it affords significant cost saving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7:25:56Z</dcterms:modified>
  <cp:revision>13</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